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10.gif" ContentType="image/gif"/>
  <Override PartName="/ppt/media/image9.wmf" ContentType="image/x-wmf"/>
  <Override PartName="/ppt/media/image20.gif" ContentType="image/gif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970D-4ED5-4C10-8FCE-AA771858C17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B054-9B73-42F7-82FC-46A83E49D6B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0FC-4F2F-42B8-B6ED-6EA4C2B9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067-9BCE-4C05-936E-BA0AD58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D24-13A2-490A-A0DA-58699AE6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8F6-5E7C-4172-84AA-DF22308D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0AF8-D8A6-475D-A210-C3527A02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F4D8-FBEA-4BD4-A317-5349D83C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F910-8945-45EA-B768-BA031192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9A66-01D8-4789-9510-E6EF8023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C271-C253-467A-A0C1-6863F0AA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1F57-0BAD-4B3F-A14D-BAA9B6E8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47AC-C63E-4BB5-937D-941EF8E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4B2-0696-424B-84DE-78F12E1E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5EE7-64B2-445A-B5CC-29CC351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DCDF-EA3D-4743-8F22-6B3B0F6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81E-7494-48B0-BEF0-7DBAA181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542-9C83-4E37-9776-DA8E75F5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B59E-A1BD-47EA-AAC5-5FFE134B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65B0D-D06B-4892-9C57-4D3108A8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EB53-FD5A-4DBF-875F-9B42A0BE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D4631-9652-4308-94E7-AD824DC4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C67EC-A918-4A78-B85A-46BB4EBD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0590-81C2-4CFB-A1F9-BACDC43C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5DF-6231-428D-A797-8AF069C2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CC01-DCAA-46C9-9E03-9E0343AB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57195-5B05-48F4-BFD3-5CE8AEDD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8A6A-CD10-40A5-B44C-8303ED04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CF59-1251-4912-834E-ED6E611C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A20E-66CD-4FF4-9B8B-4EB76EF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E94B-4BD7-49B3-8501-CB6B0E83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7640-6AC1-436C-B44B-347B1B83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8543-8AD3-428A-8497-737582CD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385C-5931-4657-B610-625BA3B2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BD33-1E14-4A16-9986-3CEA85E2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C362-A0DD-4155-9300-5531B85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A3B9D-4423-4232-824A-1076E394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039B-AC9E-49C2-AED2-294E7155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249A2-B630-44E9-BCF4-D493DA98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5BEB-CAC3-4D88-B6A7-1EED832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0A8BB-91F9-4AA5-B12C-5436551A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4BA7-8CA5-4489-9C11-C03A9FFA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EAB0-395D-4BBB-8043-8B29951A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2ED4-769A-438E-ACDB-1B4722D4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F850-7212-433B-9196-53270448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85A-8377-4181-9137-2AB19F98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AA15-303E-4F06-9DB0-E6D29C9E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8F3-66B7-4DFC-B8B9-4192683E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ACB-CEAB-4FE1-AEB6-442F9661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714-FD50-4872-905A-BF2D401F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AAC0-023E-49EF-9DBE-44FDF190C326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882D-090F-4967-BBBA-4D447F00817F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C255-AC3C-42D4-9981-C8A8D245EEBE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122D-4845-444F-9135-2788DE20C7C2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633240" y="-23760"/>
            <a:ext cx="7864560" cy="1743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1213920"/>
            <a:ext cx="78548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Autopilo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Desce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Rad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Thru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Fla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Laun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Alof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Eng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10" action="ppaction://hlinksldjump"/>
              </a:rPr>
              <a:t>Prop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Propell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500040" y="5857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e2d700"/>
                </a:solidFill>
                <a:uFillTx/>
                <a:latin typeface="Arial"/>
                <a:hlinkClick r:id="rId12" action="ppaction://hlinksldjump"/>
              </a:rPr>
              <a:t>E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rop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lanes propel themselves through the ai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4" descr="d:\Users\harrisonv.STAWELL-PS\AppData\Local\Microsoft\Windows\Temporary Internet Files\Content.IE5\F3P6WDAJ\MPj04224400000[1].jpg"/>
          <p:cNvPicPr/>
          <p:nvPr/>
        </p:nvPicPr>
        <p:blipFill>
          <a:blip r:embed="rId1"/>
          <a:stretch/>
        </p:blipFill>
        <p:spPr>
          <a:xfrm>
            <a:off x="3714840" y="2928960"/>
            <a:ext cx="4929120" cy="3500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571680" y="5500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ropel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 propeller  spins to push the plane forwards by the air passing through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C:\Program Files\Microsoft Office\Media\CntCD1\Photo1\j0201295.jpg"/>
          <p:cNvPicPr/>
          <p:nvPr/>
        </p:nvPicPr>
        <p:blipFill>
          <a:blip r:embed="rId1"/>
          <a:stretch/>
        </p:blipFill>
        <p:spPr>
          <a:xfrm>
            <a:off x="3664080" y="2643120"/>
            <a:ext cx="5113080" cy="37148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428760" y="5429160"/>
            <a:ext cx="2714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20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d:\Users\harrisonv.STAWELL-PS\AppData\Local\Microsoft\Windows\Temporary Internet Files\Content.IE5\7JZ9NZVQ\MCj04347550000[1].png"/>
          <p:cNvPicPr/>
          <p:nvPr/>
        </p:nvPicPr>
        <p:blipFill>
          <a:blip r:embed="rId2"/>
          <a:stretch/>
        </p:blipFill>
        <p:spPr>
          <a:xfrm>
            <a:off x="642960" y="164304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Program Files\Microsoft Office\Media\CntCD1\Animated\j0236323.gif"/>
          <p:cNvPicPr/>
          <p:nvPr/>
        </p:nvPicPr>
        <p:blipFill>
          <a:blip r:embed="rId3"/>
          <a:stretch/>
        </p:blipFill>
        <p:spPr>
          <a:xfrm>
            <a:off x="5286240" y="1643040"/>
            <a:ext cx="3143520" cy="23083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2786040" y="5072040"/>
            <a:ext cx="2571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566640" y="407880"/>
            <a:ext cx="786456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8102520" cy="4357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Meaning: autopilot is a system that controls the plane without human help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Back to glossar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4" descr="d:\Users\harrisonv.STAWELL-PS\AppData\Local\Microsoft\Windows\Temporary Internet Files\Content.IE5\7JZ9NZVQ\MPj04224260000[1].jpg"/>
          <p:cNvPicPr/>
          <p:nvPr/>
        </p:nvPicPr>
        <p:blipFill>
          <a:blip r:embed="rId2"/>
          <a:stretch/>
        </p:blipFill>
        <p:spPr>
          <a:xfrm>
            <a:off x="2714760" y="2428920"/>
            <a:ext cx="607212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scend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0040" y="1356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eaning: descend means going down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C:\Program Files\Microsoft Office\Media\CntCD1\ClipArt4\j0252775.wmf"/>
          <p:cNvPicPr/>
          <p:nvPr/>
        </p:nvPicPr>
        <p:blipFill>
          <a:blip r:embed="rId1"/>
          <a:stretch/>
        </p:blipFill>
        <p:spPr>
          <a:xfrm>
            <a:off x="1643040" y="2806560"/>
            <a:ext cx="6237360" cy="3480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357120" y="5715000"/>
            <a:ext cx="1500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ad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 radar is a computer that can track planes and 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C:\Program Files\Microsoft Office\Media\CntCD1\Animated\j0234742.gif"/>
          <p:cNvPicPr/>
          <p:nvPr/>
        </p:nvPicPr>
        <p:blipFill>
          <a:blip r:embed="rId1"/>
          <a:stretch/>
        </p:blipFill>
        <p:spPr>
          <a:xfrm>
            <a:off x="2000160" y="2819520"/>
            <a:ext cx="4572000" cy="33955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>
            <a:off x="285840" y="5786280"/>
            <a:ext cx="178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Thru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hrust is what pushes planes through the ai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C:\Program Files\Microsoft Office\Media\CntCD1\Photo1\j0178707.jpg"/>
          <p:cNvPicPr/>
          <p:nvPr/>
        </p:nvPicPr>
        <p:blipFill>
          <a:blip r:embed="rId1"/>
          <a:stretch/>
        </p:blipFill>
        <p:spPr>
          <a:xfrm>
            <a:off x="1857240" y="2786040"/>
            <a:ext cx="5988240" cy="31910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5786280"/>
            <a:ext cx="178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Fla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laps make the plane change direction ,height and sp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4" descr="C:\Program Files\Microsoft Office\Media\CntCD1\ClipArt6\j0290819.wmf"/>
          <p:cNvPicPr/>
          <p:nvPr/>
        </p:nvPicPr>
        <p:blipFill>
          <a:blip r:embed="rId1"/>
          <a:stretch/>
        </p:blipFill>
        <p:spPr>
          <a:xfrm>
            <a:off x="1643040" y="2786040"/>
            <a:ext cx="6286680" cy="3205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428760" y="5929200"/>
            <a:ext cx="178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La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aunch is when a plane takes of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4" descr="C:\Program Files\Microsoft Office\Media\CntCD1\ClipArt6\j0297745.wmf"/>
          <p:cNvPicPr/>
          <p:nvPr/>
        </p:nvPicPr>
        <p:blipFill>
          <a:blip r:embed="rId1"/>
          <a:stretch/>
        </p:blipFill>
        <p:spPr>
          <a:xfrm>
            <a:off x="1143000" y="2571840"/>
            <a:ext cx="7332840" cy="39290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285840" y="5929200"/>
            <a:ext cx="178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lof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loft is when a plane is in the air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6" descr="d:\Users\harrisonv.STAWELL-PS\AppData\Local\Microsoft\Windows\Temporary Internet Files\Content.IE5\4L3IUXGI\MPj04286700000[1].jpg"/>
          <p:cNvPicPr/>
          <p:nvPr/>
        </p:nvPicPr>
        <p:blipFill>
          <a:blip r:embed="rId1"/>
          <a:stretch/>
        </p:blipFill>
        <p:spPr>
          <a:xfrm>
            <a:off x="2643120" y="3000240"/>
            <a:ext cx="5929560" cy="36385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0" y="6286680"/>
            <a:ext cx="2571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eng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 engine is what pushes a plane through the ai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  <a:ea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5" descr="d:\Users\harrisonv.STAWELL-PS\AppData\Local\Microsoft\Windows\Temporary Internet Files\Content.IE5\F3P6WDAJ\MPj04223290000[1].jpg"/>
          <p:cNvPicPr/>
          <p:nvPr/>
        </p:nvPicPr>
        <p:blipFill>
          <a:blip r:embed="rId1"/>
          <a:stretch/>
        </p:blipFill>
        <p:spPr>
          <a:xfrm>
            <a:off x="2786040" y="2500200"/>
            <a:ext cx="6000840" cy="4143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3:46:13Z</dcterms:created>
  <dc:creator>Education</dc:creator>
  <dc:description/>
  <dc:language>en-US</dc:language>
  <cp:lastModifiedBy>Education</cp:lastModifiedBy>
  <dcterms:modified xsi:type="dcterms:W3CDTF">2009-07-31T00:16:27Z</dcterms:modified>
  <cp:revision>12</cp:revision>
  <dc:subject/>
  <dc:title>FLIGHT Glossary</dc:title>
</cp:coreProperties>
</file>